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A15-265A-4AF2-A346-1230CB7F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B91-AD52-4C37-98C5-8CE7F8D9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0C0-7854-4DCC-9D67-29F6801A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8C5-D080-4663-98E0-2B0A81F3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3E8AA-78B2-43AC-989F-ED097C40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44367-C77A-4F54-B0F2-DB3EF95B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0FE2B-53D5-4823-A91E-F7563CA0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D4CD8-AB8D-4F66-B8DB-D8DFD4D9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2B444-0432-4BA4-AEF9-20F64665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CA584-5912-4CE1-B6E0-4F9CCDDE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8A5C2-8E5D-4E11-91C1-0D19B666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01D-DFAD-4E13-9354-A775CF21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3BA44-D7B9-441F-9143-AB530DEC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0B261-6304-4224-88EA-DCDB1234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B81DA-216A-47B0-8C71-00E20C11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FAD08-219A-46B1-9C78-50D957F4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E7C02-5DEF-4CD5-B475-09EED448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1EA-ACDD-45E7-8630-E0AD5341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533-E582-493E-9FC6-EA81EADD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ADE-14E8-49BE-9C0F-A3FCE801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26C-EDB9-4B47-9413-40129C95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124-7B2D-4978-A250-E88AB638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8BC-DF43-41A5-B9CB-18466BA3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BA6-949B-4C38-A9D4-60F9D047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1B82-D9CD-4247-ACD5-E8018732E6B0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562B-9D34-495C-A0B1-91A099C20E85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57200" y="6105600"/>
          <a:ext cx="743040" cy="75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6105600"/>
                    <a:ext cx="7430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北區毒災應變諮詢中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038480"/>
            <a:ext cx="73152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</a:t>
            </a:r>
            <a:r>
              <a:rPr b="1" lang="zh-TW" sz="40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報告者：陳 范 倫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中華民國 九十一 年 八 月 二十 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之運作現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與規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毒災聯防小組之法律責任</a:t>
            </a:r>
            <a:r>
              <a:rPr b="0" lang="zh-TW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800" y="1143000"/>
            <a:ext cx="8572680" cy="54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目前並無相關法令強制加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簽署聯防支援協定，以確保聯防小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在提供互救時可獲得應有之器材與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力費用的補償，若有爭議由仲裁單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協調，提高廠商的互救意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1100160"/>
            <a:ext cx="784872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對象：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環保署與轄區縣市環保單位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其他相關政府單位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轄區運作業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二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緊急諮詢方式：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上班時間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8:00~17:30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專線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cc00"/>
                </a:solidFill>
                <a:uFillTx/>
                <a:latin typeface="Arial Narrow"/>
                <a:ea typeface="華康細圓體"/>
              </a:rPr>
              <a:t>080005711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下班時間與例假日：大哥大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952330005~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三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非緊急諮詢方式：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5917777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、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-591614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19040" y="0"/>
            <a:ext cx="665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中心緊急諮詢服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86080" y="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一般諮詢服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836640"/>
            <a:ext cx="7921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需要提供毒性化學物質的物質安全資料表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MSDS)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、防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手冊、毒理相關資料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需要提供北區毒災應變諮詢中心的應變流程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SOP)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與服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內容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提供毒性化學物質運作工廠的危害預防應變作業要點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劃、偵測警報建置與選擇、緊急應變工具與裝備的選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提供毒災應變訓練課程與教材，演練腳本的提供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其他諮詢服務，如：毒性化學物質種類判定、聯防小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的編組方式與法律效力、毒化物廢棄處理方式與後續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運廠商、無預警測試的方式與日期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905120" y="923760"/>
          <a:ext cx="3835440" cy="50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923760"/>
                    <a:ext cx="383544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334120" y="1228680"/>
            <a:ext cx="1066680" cy="6764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1752480"/>
            <a:ext cx="1905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全真標準楷書"/>
                <a:ea typeface="華康細圓體"/>
              </a:rPr>
              <a:t>基隆市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105520" y="2857680"/>
            <a:ext cx="1295280" cy="2664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9718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全真標準楷書"/>
                <a:ea typeface="華康細圓體"/>
              </a:rPr>
              <a:t>花蓮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2209680"/>
            <a:ext cx="1981080" cy="9907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971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苗栗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361960" y="1609560"/>
            <a:ext cx="2057400" cy="3715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82880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新竹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3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657240" y="1219320"/>
            <a:ext cx="12193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981080"/>
            <a:ext cx="914400" cy="6098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23623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宜蘭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09320" y="1447920"/>
            <a:ext cx="2210040" cy="1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桃園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7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990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台北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2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整合後的毒災聯防小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105160" y="1219320"/>
            <a:ext cx="14475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066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台北市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590560" y="1752480"/>
            <a:ext cx="1600200" cy="685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新竹市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4508640"/>
            <a:ext cx="406728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北區共有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383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家廠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               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劃分為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18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國外聯防組織的編組方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240" y="990720"/>
            <a:ext cx="79218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以區域性來編組：如相同工業區、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近城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二、以運作相同的化學品來編組：如氯氣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TDI(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此大部分為運輸需求，如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CHLOR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SMA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三、工會組織的方式：如化工業、責任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顧協會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TR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的角色定位</a:t>
            </a:r>
            <a:r>
              <a:rPr b="1" lang="zh-TW" sz="4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" y="685800"/>
            <a:ext cx="8153280" cy="49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應變工具與個人防護裝備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應變專家技術諮詢提供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三、應變人力的提供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的落實</a:t>
            </a:r>
            <a:r>
              <a:rPr b="1" lang="zh-TW" sz="4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680" y="509760"/>
            <a:ext cx="8572320" cy="58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各廠商可提供應變工具與個人防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裝備的資料更新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種類、廠牌、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量等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各廠商二十四小時聯絡窗口與應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專家建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三、資料可上網，以權限及密碼來查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管理及資料更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的落實</a:t>
            </a:r>
            <a:r>
              <a:rPr b="1" lang="zh-TW" sz="4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680" y="509760"/>
            <a:ext cx="857232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四、聯防支援協定的簽署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權利與義務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聯防小組的組織架構及工作規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的時機及表格文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的角色定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的人力費用及設備費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5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使用後歸還的機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6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仲裁單位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環保、消防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.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毒災聯防小組的訓練規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33520"/>
            <a:ext cx="8572680" cy="69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透過縣市環保單位定期舉辦會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與訓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毒災應變諮詢中心規劃有系統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教育訓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三、定期舉辦毒災應變演練觀摩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十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底於新竹縣、十一月底於桃園縣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四、定期提供簡訊與演練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VC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01:20:15Z</dcterms:created>
  <dc:creator>aaa</dc:creator>
  <dc:description/>
  <dc:language>en-US</dc:language>
  <cp:lastModifiedBy>aaa</cp:lastModifiedBy>
  <dcterms:modified xsi:type="dcterms:W3CDTF">2002-12-30T05:09:29Z</dcterms:modified>
  <cp:revision>55</cp:revision>
  <dc:subject/>
  <dc:title>PowerPoint 簡報</dc:title>
</cp:coreProperties>
</file>